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5CC-F332-474D-8FD0-5DDFDE04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5A7-DA22-4110-8D35-EDC0B5FC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6B5-52B9-4113-9541-41F2A223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2AB-6426-4DB1-86E9-5A23ADC8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59011-55AE-40B2-AECF-B1B2085D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DEEBC-4B2E-47EB-A9DA-DE112A0A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8CBD4-9F34-4D0D-8FB8-779237A6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D78F4-51A8-4831-90FE-EC05AAFF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532E4-E9D8-4E5C-830C-AB39492B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87351-EB3B-46C6-A4E6-1283ADA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843E8-EE4E-4555-9C32-8D413309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152-B96F-4DAA-95B4-E822F4F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DA5D3-FAC7-436A-B2EE-1304EAAC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0106B-0015-4A2D-94BB-86D9B10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61E4A-D61D-434B-996B-392C88A9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4326A-A0DC-4619-AB7B-419A89ED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DE4E5-9A6F-422A-B5B5-D1A8FDEF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816B-886B-4B25-BDF8-5824C3ED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9ACD9-A638-41FB-AD5C-C906FB6A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8C19C-7AD7-4CDD-B74D-91C64E78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2612-5116-4DAF-817A-FE303B6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B9D3-A49D-4BF6-BA11-A0BFD633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F0B-A1F3-4483-848D-EE5EB3A0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66DF-74AC-42DD-B003-C21838B8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69C8-D331-4E08-9253-B7A5683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EE38-B018-417D-B99F-EA3D6A7A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CA7C-CD9D-4D3C-ADC6-7593068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D788-59BB-47C3-8B0A-9443D543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F327-1A6E-4E3E-AD13-10ACCC4F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5563-4EF6-4802-8F8E-CF52FEDB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EA505-62C0-45B6-B199-17EB8703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56B07-5A71-4720-B9C5-B209D512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FCB2C-24CA-4C92-B40E-D1A16C33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DFC-C9E3-4981-BA3C-7A2DA633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5C991-FC3B-4509-8611-9147451C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14CF3-296D-4AC1-B040-825041B6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44074-B385-4678-9723-E0EEE77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ED0E5-0B16-441A-B318-78F7E6C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27645-984D-4F4B-B152-22B8335A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08A7C-AD4F-4FDD-909C-BC7FEB2E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CB684-260A-493B-992C-3CBFAF9D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97A79-8783-4D93-97F2-95280A00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D05E6-4CC4-4718-8888-77C6A920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E6346-5CA5-4621-9620-03AF3FD3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701-4F3D-4225-A398-60879D10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EDE8E-4FE7-4C1C-90A0-C8CF28A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1A849-5D06-4E76-8533-0A38F290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DC45B-B0DC-45F7-9878-D9D84280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FEF68-BC6F-4F4F-B136-F74F92BE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903C6-2912-4C5A-8E1D-5A17CDEC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A1989-F852-4A0E-8590-BC3F6E70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44158-6C6E-42EE-9D8F-275F5168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B0099-8251-4375-895D-4C8CE811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A1754-8814-4C9C-81B7-47E374F2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1ED16-E9E9-451D-AC49-AD34BBEE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7D1-8136-49BC-BAFF-1B5AEC0B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3F2FC-7DF4-4272-A8DB-7C02A9FF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B5FB5-F13D-48FE-86FB-51DB6878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DA4BD-F657-414F-BE7C-9C30D2C6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915A8-8723-4BEF-B21A-0053D22D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E6508-27C5-4651-85F0-8B6CDB7F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7F0D6-7E06-464D-ABF1-A463D34F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83527-6F09-4717-B7CF-22AF12D7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C5AF3-005A-4EF1-9DC2-EA30DCD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FB04F-8AD1-4A0A-8BBA-1AF959A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0EE70-6DFF-42B0-BB8F-57F13CA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994-DA29-49A2-A0A2-DA56E743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441B0-2E93-4891-90F5-E5931BB2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015B3-EAB9-4A66-86FB-4C5CC3E7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2A128-C9D1-4B24-9BC5-D0231B55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420-15D8-4ECC-B12A-43A16DB1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B21-B685-444B-86D1-61544AB0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3C97-1922-4043-93F5-45ACF81B2D93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f2936"/>
          </a:solidFill>
          <a:ln w="38160">
            <a:solidFill>
              <a:srgbClr val="9f2936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34CA-4174-4D2E-9980-627564826E36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773C-A4D4-40F2-BF9E-EBCA00A7C0AD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A871-864E-4FDF-A007-337808F5E1DD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69EC-4EF3-49E4-A5FD-440D3249D193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F88D-15BF-4033-A91F-9D67F9737467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33440" y="208080"/>
            <a:ext cx="8350200" cy="24429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5929200" y="3357720"/>
            <a:ext cx="321480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nstantia"/>
              </a:rPr>
              <a:t>Выполнила Вежова А.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nstantia"/>
              </a:rPr>
              <a:t>Студентка 4 курса КГП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nstantia"/>
              </a:rPr>
              <a:t>Филологического фак-т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54" name="Горизонтальный свиток 5"/>
          <p:cNvGrpSpPr/>
          <p:nvPr/>
        </p:nvGrpSpPr>
        <p:grpSpPr>
          <a:xfrm>
            <a:off x="542880" y="1255680"/>
            <a:ext cx="8345520" cy="1951200"/>
            <a:chOff x="542880" y="1255680"/>
            <a:chExt cx="8345520" cy="1951200"/>
          </a:xfrm>
        </p:grpSpPr>
        <p:pic>
          <p:nvPicPr>
            <p:cNvPr id="255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542880" y="1255680"/>
              <a:ext cx="83455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814320" y="1628640"/>
              <a:ext cx="770112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262626"/>
                  </a:solidFill>
                  <a:latin typeface="Arial"/>
                </a:rPr>
                <a:t>Экспрессионизм в живописи.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971640" y="2997360"/>
            <a:ext cx="3024000" cy="3468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267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0141b"/>
                </a:solidFill>
                <a:latin typeface="Arial"/>
              </a:rPr>
              <a:t>Что такое искусство?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633564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151c"/>
                </a:solidFill>
                <a:latin typeface="Arial"/>
              </a:rPr>
              <a:t>Почему возникло течение экспрессионизм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151c"/>
                </a:solidFill>
                <a:latin typeface="Arial"/>
              </a:rPr>
              <a:t>Что характерно для экспрессионизм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151c"/>
                </a:solidFill>
                <a:latin typeface="Arial"/>
              </a:rPr>
              <a:t>Какие существовали экспрессионистские объединен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0141b"/>
                </a:solidFill>
                <a:latin typeface="Bookman Old Style"/>
              </a:rPr>
              <a:t>Приобщение учеников к искусству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141b"/>
                </a:solidFill>
                <a:latin typeface="Constantia"/>
              </a:rPr>
              <a:t>Познакомить с таким течением в искусстве как экспрессиониз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141b"/>
                </a:solidFill>
                <a:latin typeface="Constantia"/>
              </a:rPr>
              <a:t>Научить анализировать картины художников-экспрессионис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Проект рассчитан на 2 ча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0141b"/>
                </a:solidFill>
                <a:latin typeface="Constantia"/>
              </a:rPr>
              <a:t>1 час- знакомство с течением экспрессиониз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0141b"/>
                </a:solidFill>
                <a:latin typeface="Constantia"/>
              </a:rPr>
              <a:t>2 час- работа с картинами художников- экспрессионист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141b"/>
                </a:solidFill>
                <a:latin typeface="Arial"/>
              </a:rPr>
              <a:t>Толкование течения « экспрессионизм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141b"/>
                </a:solidFill>
                <a:latin typeface="Arial"/>
              </a:rPr>
              <a:t>Художественные приемы экспрессионизм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141b"/>
                </a:solidFill>
                <a:latin typeface="Arial"/>
              </a:rPr>
              <a:t>Экспрессионистские объедин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141b"/>
                </a:solidFill>
                <a:latin typeface="Arial"/>
              </a:rPr>
              <a:t>Анализ картин художников-экспрессионист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Заголовок 2" descr=""/>
          <p:cNvPicPr/>
          <p:nvPr/>
        </p:nvPicPr>
        <p:blipFill>
          <a:blip r:embed="rId2"/>
          <a:stretch/>
        </p:blipFill>
        <p:spPr>
          <a:xfrm>
            <a:off x="450720" y="371520"/>
            <a:ext cx="8242560" cy="77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141b"/>
                </a:solidFill>
                <a:latin typeface="Constantia"/>
              </a:rPr>
              <a:t>Доклад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141b"/>
                </a:solidFill>
                <a:latin typeface="Constantia"/>
              </a:rPr>
              <a:t>Сообщение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141b"/>
                </a:solidFill>
                <a:latin typeface="Constantia"/>
              </a:rPr>
              <a:t>Работа с картиной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2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Arial"/>
              </a:rPr>
              <a:t>http://www.directorinfo.ru/Article.aspx?id=13925&amp;iid=62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Arial"/>
              </a:rPr>
              <a:t>http://ec-dejavu.ru/e/Expressionism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151c"/>
                </a:solidFill>
                <a:latin typeface="Arial"/>
              </a:rPr>
              <a:t>http://bse.sci-lib.com/article125772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9:05:01Z</dcterms:modified>
  <cp:revision>19</cp:revision>
  <dc:subject/>
  <dc:title>Экспрессионизм</dc:title>
</cp:coreProperties>
</file>